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3720" y="932040"/>
            <a:ext cx="52632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European Renaissance and 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Reformation, 1300–1600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36800"/>
            <a:ext cx="660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wo movements, the Renaissance and the Reformation, usher in dramatic social and cultural changes in Euro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80920" y="1690560"/>
            <a:ext cx="449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Renaissance Revolutionizes A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3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73360" y="2174760"/>
            <a:ext cx="58006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onardo, Renaissance 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onardo da Vinci—painter, sculptor, invent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ient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ints one of the best-known portraits in the world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a L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mous religious painting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st Su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3360" y="3984480"/>
            <a:ext cx="5581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phael Advances Re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hael Sanzio, famous for his use of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vorite subject: the Madonna and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mous painting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ool of Ath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4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73360" y="2174760"/>
            <a:ext cx="5800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guissola and Gentiles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onisba Anguissola: first woman artist to g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ld re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emisia Gentileschi paints strong, heroic wom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80920" y="1690560"/>
            <a:ext cx="449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Renaissance Revolutionizes A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75520" y="159876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Renaissance Writers Change Lit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5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773360" y="217476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Trends in Wr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rs use th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vernacu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their native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f-expression or to portray individuality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73360" y="3441600"/>
            <a:ext cx="573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trarch and Boccac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sco Petrarch, humanist and poet; wom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d Laura is his m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occaccio is best known for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amer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ries of sto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81280" y="1690560"/>
            <a:ext cx="47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Renaissance Writers Change Liter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6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73360" y="2174760"/>
            <a:ext cx="5800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hievelli Advises Ru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ccolò Machievelli, author of political guideboo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i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i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ines how rulers can gain and kee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3360" y="3708360"/>
            <a:ext cx="558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ttoria Colo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man writer with grea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ems express personal emo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0160" y="3368520"/>
            <a:ext cx="59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1400s, the ideas of the Italian Renaissance begin to spread to Northern Eur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370160" y="2397240"/>
            <a:ext cx="7571880" cy="1032840"/>
            <a:chOff x="1370160" y="2397240"/>
            <a:chExt cx="7571880" cy="1032840"/>
          </a:xfrm>
        </p:grpSpPr>
        <p:sp>
          <p:nvSpPr>
            <p:cNvPr id="173" name=""/>
            <p:cNvSpPr/>
            <p:nvPr/>
          </p:nvSpPr>
          <p:spPr>
            <a:xfrm>
              <a:off x="1370160" y="2397240"/>
              <a:ext cx="47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70160" y="2787480"/>
              <a:ext cx="75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Northern Renaissance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6240" y="182736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Northern Renaissance Beg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67280" y="885960"/>
            <a:ext cx="511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Northern Renaissan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73360" y="2403360"/>
            <a:ext cx="58640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naissance Ideas Sp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irit of Renaissance Italy impresses visitors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ther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Hundred Years’ War ends (1453), cities gr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id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rchants in northern cities grow wealthy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nsor art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land and France unify under strong monarch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are art pa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thern Renaissance artists interested in rea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umanists interested in social reform based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udeo-Christian val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8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74080" y="159876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rtistic Ideas Spr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9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73360" y="2174760"/>
            <a:ext cx="5800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naissance Styles Migrate Nor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ists, writers move to northern Europe fleeing w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Italy (149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73360" y="3165480"/>
            <a:ext cx="573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 Pa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recht Dürer’s woodcuts and engrav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hasize rea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ns Holbein the Younger paints portraits, ofte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glish royal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79480" y="169056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rtistic Ideas Spre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0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773360" y="2174760"/>
            <a:ext cx="5445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emish Pa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anders is the artistic center of norther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 van Eyck, pioneer in oil-based painting, u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yers of 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 Eyck’s paintings are realistic and reve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ject’s pers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ieter Bruegel captures scenes of peasant lif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 realistic detai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rthern Humani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ize the Catholic Church, start Christi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nt to reform society and promote educ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cularly for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1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73000" y="1598760"/>
            <a:ext cx="59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orthern Writers Try to Reform 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3360" y="370836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ristian Human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derius Erasmus of Holland is best-kn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ristian human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 book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aise of Foll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kes fun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rchants and pri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omas More of England creates a model society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 book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Utop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83440" y="169056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Northern Writers Try to Reform Socie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73360" y="2174760"/>
            <a:ext cx="5800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men’s Re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ristine de Pizan, one of the first women wri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e promotes education, equal treatment for boy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gir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2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3720" y="932040"/>
            <a:ext cx="52632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European Renaissance and 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Reformation, 1300–1600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3720" y="250200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aly: Birthplace of the Renaiss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44080" y="307800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Northern Renaiss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3720" y="3591000"/>
            <a:ext cx="36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uther Leads the Re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5520" y="4129200"/>
            <a:ext cx="33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formation Contin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73720" y="159876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Elizabethan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73360" y="2174760"/>
            <a:ext cx="5445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naissance spreads to England in mid-150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iod known as the Elizabethan Age, af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izabeth reigns from 1558 to 160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3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73360" y="374652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lliam Shakesp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hakespe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often regarded as the great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ywr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rn in Stratford-upon-Avon in 15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ys performed at London’s Globe The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74800" y="159876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rinting Spreads Renaissance Id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inese In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ound 1045 Bi Sheng of China invents mov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uses a separate piece of type for ea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4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73360" y="370836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tenberg Improves the Print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ound 1440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ohann Gutenbe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Germa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s printing pr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ting press allows for quick, cheap boo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rst book printed with movable type, Gutenber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ble (145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75160" y="15987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Legacy of the Renaiss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73360" y="2174760"/>
            <a:ext cx="5445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ges in the 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t influenced by classical Greece and R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stic portrayals of individuals and 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t is both secular and relig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rs use vernacu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 praises individual achiev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5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80560" y="1690560"/>
            <a:ext cx="40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Legacy of the Renaiss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73360" y="2174760"/>
            <a:ext cx="58006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ges in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ting makes information widely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lliterate people benefit by having books read to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shed accounts of maps and charts lead to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shed legal proceedings make rights clearer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al structures and religious practice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stio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6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1370160" y="2486160"/>
            <a:ext cx="4787640" cy="1640520"/>
            <a:chOff x="1370160" y="2486160"/>
            <a:chExt cx="4787640" cy="1640520"/>
          </a:xfrm>
        </p:grpSpPr>
        <p:sp>
          <p:nvSpPr>
            <p:cNvPr id="266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0160" y="2867040"/>
              <a:ext cx="478764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Luther Leads the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Reformation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370160" y="414828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tin Luther’s protest over abuses in the Catholic Church lead to the founding of Protestant chur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74080" y="182736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auses of the Re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73360" y="2403360"/>
            <a:ext cx="5788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rch Authority Challe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larism, individualism of Renaissance challe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urch auth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lers challenge Church’s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ting press spreads secular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thern merchants resent paying church t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73360" y="4210200"/>
            <a:ext cx="578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iticisms of the Catholic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rupt leaders, extravagant po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orly educated prie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70160" y="885960"/>
            <a:ext cx="570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Luther Leads the Reformati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74800" y="217476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rly Calls for R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hn Wycliffe and Jan Hus stress Bible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hority over clergy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derius Erasmus and Thomas More are vo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s of the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religious works, Europeans form 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inions about Chu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81640" y="1690560"/>
            <a:ext cx="35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auses of the Re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8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73720" y="159876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Luther Challenges the Chu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73360" y="2174760"/>
            <a:ext cx="5445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95 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tin Luther protests Friar Johann Tetzel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ling of indulg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Indulg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 pardon releasing a person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alty for a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517 Luther posts his 95 Theses attac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don-merchant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ther’s theses circulate throughout 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ther launches th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Re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 mov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religious re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formation rejects pope’s autho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9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74800" y="2174760"/>
            <a:ext cx="5465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uther’s Teac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can win salvation by good works and 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ristian teachings must be based on the Bib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the p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 people with faith are equal, can interpret Bi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prie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80920" y="1690560"/>
            <a:ext cx="38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Luther Challenges the Chur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0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74080" y="159876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Response to Lu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ope’s Thr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e Leo X issues decree threatening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ommunicate Luther (15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ther’s rights of Church membership are tak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fuses to take back his statements and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ommun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73360" y="423396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mperor’s Op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les V is Holy Roman Emper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 issues Edict of Worms (1521), declaring Luther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r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uther and followers begin a separate religio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oup—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Luther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1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0160" y="2486160"/>
            <a:ext cx="5327280" cy="1640520"/>
            <a:chOff x="1370160" y="2486160"/>
            <a:chExt cx="5327280" cy="1640520"/>
          </a:xfrm>
        </p:grpSpPr>
        <p:sp>
          <p:nvSpPr>
            <p:cNvPr id="61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0160" y="2867040"/>
              <a:ext cx="532728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Italy: Birthplace of 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Renaissance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370160" y="4065480"/>
            <a:ext cx="725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talian Renaissance is a rebirth of lear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at produces many great works of art and lit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74800" y="2174760"/>
            <a:ext cx="5465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easants’ Rev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d by Reformation, German peasants see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 to serfdom (15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ces crush revolt; about 100,000 people d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80200" y="169056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Response to Lu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2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773360" y="340524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many at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princes side with Luther, become known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rote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les V fails to return rebellious prince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holic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Peace of Augsbu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1555)—each prince c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ide religion of his 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75160" y="15987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England Becomes Prote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73360" y="2174760"/>
            <a:ext cx="5445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nry VIII Wants a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nry has only daughter, needs male heir to r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nry wants a divorce; Pope refuses to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nn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aside—his first marriage to Catherin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73360" y="396720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formation Parli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liament passes laws ending pope’s power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nry remarries, becomes official head of England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omas More refuses to go against Catholic Chur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is behea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3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74800" y="217476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equences of Henry’s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nry has six wives and three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igious turmoil follows Henry’s death (154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stantism under King Edward, t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holicism under Queen 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80200" y="1690560"/>
            <a:ext cx="382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ngland Becomes Protesta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4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773360" y="370044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izabeth Restores Protestant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nry’s second daughter, Queen Elizabeth I, for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glican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Anglican Chu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acceptable to mode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tholics and Protest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74800" y="217476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izabeth Faces Other Challe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Protestants and Catholics oppo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izab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illip II, Catholic King of Spain, threate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izabeth’s need for money brings conflict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lia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5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780200" y="1690560"/>
            <a:ext cx="382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ngland Becomes Protesta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371240" y="2486160"/>
            <a:ext cx="4722120" cy="1640520"/>
            <a:chOff x="1371240" y="2486160"/>
            <a:chExt cx="4722120" cy="1640520"/>
          </a:xfrm>
        </p:grpSpPr>
        <p:sp>
          <p:nvSpPr>
            <p:cNvPr id="365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71240" y="2867040"/>
              <a:ext cx="472212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Reformation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Continues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370160" y="4167360"/>
            <a:ext cx="60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Protestant reformers divide over beliefs, the Catholic Church makes ref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73000" y="182736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alvin Continues the Re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70160" y="941400"/>
            <a:ext cx="52815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Reformation Continu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73360" y="240336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igious Reform in Switzer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iss priest Huldrych Zwingli calls for Chur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orms (15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 breaks out between Catholics, Protestant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wingli killed (153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73360" y="3933720"/>
            <a:ext cx="57117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vin Formalizes Protestant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hn Calvin writ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itutes of the Christi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ig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36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re sinful by nature and cannot ea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d chooses who will be saved—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re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Calvi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religion based on Calvin’s teachin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7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74800" y="2174760"/>
            <a:ext cx="5465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vin Leads the Reformation in Switzer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vin says ideal government i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heocra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r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religious lea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va becomes a strict Protestant theocra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d by Cal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83080" y="1690560"/>
            <a:ext cx="42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alvin Continues the Re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8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773360" y="4010040"/>
            <a:ext cx="57117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vinism Sp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hn Knox brings Calvinism to Scotland, follow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resbyter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urch governed by laymen called presbyters,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vin’s followers in France called Huguen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tholics massacre Huguenots in Paris (157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74800" y="159876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Other Protestant Refor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73360" y="2174760"/>
            <a:ext cx="5445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nabapti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nabaptis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lieve in separation of church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, oppose wa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erunners of Mennonites and Am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9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774800" y="342252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man’s Role in the Re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guerite of Navarre protected Calvin in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atrina Zell also protects refor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therina von Bora, Luther’s wife, promo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ity in marri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73360" y="159876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Catholic Re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Counter Re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atholic Re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eeks to reform Cathol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urch from with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40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1774800" y="3165480"/>
            <a:ext cx="54658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gnatius of Loy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Catholic refor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iritual Exerci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1522) calls for medit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yer, and stu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e creates Society of Jesus religious order,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es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suits follow Ignatius, start schools, convert no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rist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5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74800" y="2174760"/>
            <a:ext cx="546588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orming P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e Paul III and Pope Paul IV lea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ul III call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uncil of T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lay out refor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urch’s interpretation of Bible is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ristians need faith and good works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ble and Church traditions equally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ulgences are valid expressions of 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Inquisition to seek out here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ul IV issues Index of Forbidden Books (155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ooks bur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781640" y="1690560"/>
            <a:ext cx="347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Catholic Re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41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4440" y="182736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Italy’s Advant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70520" y="941400"/>
            <a:ext cx="67172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Italy: Birthplace of the Renaissan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2403360"/>
            <a:ext cx="5810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na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Renaiss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n explosion of creativity in ar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ing, and thou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ed in northern 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sted from 13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73360" y="3889440"/>
            <a:ext cx="5581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ty-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usades spur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wth of city-states in northern 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300s bubonic plague killed 60% of popul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rupts econom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773000" y="159876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Legacy of the Re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73360" y="2174760"/>
            <a:ext cx="54450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igious and Social Effects of the Re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holic Church is unified; Protest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nominations g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holics and Protestants create schoo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oughout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us of women does not im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42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774800" y="427032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al Effects of the Re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holic Church’s power lessens, pow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archs and states g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ormation’s questioning of beliefs br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llectual fer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te 18th century sees a new intellect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vement—the Enlighte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05160" y="1274760"/>
            <a:ext cx="54579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79120" y="1690560"/>
            <a:ext cx="27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Italy’s Advant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73360" y="2174760"/>
            <a:ext cx="5800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rchants and the Med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wealthy merchant class devel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emphasis on individual achie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nking family, the Medici, controls Flo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73360" y="3432240"/>
            <a:ext cx="5581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oking to Greece and R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tists, scholars study ruins of Rome and Lat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k manuscri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olars move to Rome after fall of Constantino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45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72640" y="1598760"/>
            <a:ext cx="44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lassical and Worldly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773360" y="21747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ics Lead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um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Hum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intellectual movement focused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 achievement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umanists studied classical texts, history, literatur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hilosop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73360" y="371808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ly Pl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naissance society wa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ecu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world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althy enjoyed fine food, homes, clot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80200" y="1690560"/>
            <a:ext cx="381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lassical and Worldly Val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3360" y="2174760"/>
            <a:ext cx="5800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rons of the 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atr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 financial supporter of art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urch leaders spend money on artworks to beautif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althy merchants also patrons of the a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73360" y="3708360"/>
            <a:ext cx="5581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naissance 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ls in many fields: the classics, art, politic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dassare Castiglione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ourti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2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book teaches how to become a “universal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73360" y="2174760"/>
            <a:ext cx="5800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naissance Wo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per-class, educated in classics, char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cted to inspire art but not create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abella d’Este, patron of artists, wields power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t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80200" y="1690560"/>
            <a:ext cx="381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lassical and Worldly Val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74800" y="159876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Renaissance Revolutionizes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2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773360" y="21747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istic Styles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tists use realistic style copied from classical ar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ten to portray religious su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inters us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perspe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a way to show thr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mensions on a canv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73360" y="367020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listic Painting and Sculp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stic portraits of prominent citiz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ulpture shows natural postures and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biblical David is a favorite subject amo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ulp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2:36:40Z</dcterms:modified>
  <cp:revision>837</cp:revision>
  <dc:subject/>
  <dc:title>No Slide Title</dc:title>
</cp:coreProperties>
</file>